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C4E2-DBEF-4168-9865-1C2DBDC8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87F2-5102-441A-B338-853338C2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C4BC-5C63-4445-AC58-39852E2E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B767-9470-419A-A8E6-A99FDC8C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2C7C-AFA3-4111-805C-C1644550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22AB-C1AE-4AD4-AEEA-A28E3DC5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3F88-A974-4D15-8EA5-17EB9B34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F600-ED7B-40F4-AA6C-E6D67909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A475-3503-4104-A87E-C10AB513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C0F8-B056-485D-9D49-D113496B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3E70-0E78-46E9-ACB7-D3E715B9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4FEF-DD95-4B1B-B51F-32E7BE35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4FE6-301C-4F38-82EB-763C0871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14A3-C9EA-4F19-BE86-551F5133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E465-074C-4F41-ACCE-51D8DDE4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F0D4-39B8-4651-BA41-2C0683CB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5FEA-02BF-459E-BFE9-9A6D3702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872D-E444-44E1-B986-C9A342E1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6033-B126-483A-816A-1F617EC7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463E-869B-41EF-A823-7A8B4F98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2047-3F9F-4474-B706-FAE86A8E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982-1AE6-4CEC-8A7C-C12E4AB5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9C01-2143-4ADD-961F-7157CEF0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CA63-DE16-494C-A1BF-660C9214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F121-C1B8-464E-9BBA-AE62D81BEC7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D020-2BCB-4989-8FE3-F2E8F0FB0D1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3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Nervous System: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Neural Tissu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uron Functional Classif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terneurons= Association Neur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/w sensory &amp; motor neur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ated entirely in brain &amp; spinal c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ysis of sensory inpu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ordination of motor outpu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sified as excitatory or inhibi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Nervous System:Functional Classification Organiz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5802480" cy="2139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715000" y="1981080"/>
            <a:ext cx="3308400" cy="2886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571500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03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uron Commun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nap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ce between synaptic knob &amp; next 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rons communicate with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neur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Cell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romuscular Jun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roglandular Jun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rotransmit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mical messenger at synap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sting Membrane Potential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tracellular Flui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High in [K+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xtracellular Flui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High in [Na+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a+/K+ exchange pum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mp 2K+ in and 3 Na+ 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ting potential: -70mV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on Channe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assive channe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always open &amp; “leaky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ctive or Gated Channe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hemically regul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neurotransmi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Voltage regul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voltage cha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echanically regul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physical stim (Merkel’s disc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Neuron Electrical Signal: Action Potential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on Potenti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ical sig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mulated by neurotransmitter, voltage change, or physical stimul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les to occu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olarization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reshol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-60 to -55mV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ccurs in axons &amp; muscle fibers (down T-tubu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action potentials generated are identical (gu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-or-None Response (toll booth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ction Potential Generation: Step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ate voltage-gated Na+ channel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epolar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membrane potential: Na+ 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activate Voltage-gated Na+ chann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30mV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lose &amp;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an’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 ope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ate Voltage-Gated K+ channel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polar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 membrane potential (-70mV): K+ 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to resting membrane potential: -70m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02840" indent="-434160">
              <a:spcBef>
                <a:spcPts val="700"/>
              </a:spcBef>
              <a:buClr>
                <a:srgbClr val="ffcc6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ltage-gated Na+ channels closed, can op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02840" indent="-434160">
              <a:spcBef>
                <a:spcPts val="700"/>
              </a:spcBef>
              <a:buClr>
                <a:srgbClr val="ffcc6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ltage-gated K+ channels closing with delay of 1msec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yperpolariz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below -70mV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02840" indent="-434160">
              <a:spcBef>
                <a:spcPts val="700"/>
              </a:spcBef>
              <a:buClr>
                <a:srgbClr val="ffcc6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1msec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ormal resting potential (-70mV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on Potential travels to next portion of membr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ction Potential: Steps &amp; Grap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4841640" cy="5867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914400"/>
            <a:ext cx="27687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fractory Periods of Action Potential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Absolute refractory perio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Repolar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ran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N’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spond to sti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opening voltage-gated Na+ channel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nd of action potent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700"/>
              </a:spcBef>
              <a:buClr>
                <a:srgbClr val="ffcc6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on potential: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n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ion away from so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 action="ppaction://hlinksldjump"/>
              </a:rPr>
              <a:t>Relative refractory perio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Hyperpolar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y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RG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imulus can initiate axn potenti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when voltage-gated Na+ channels are restored to normal (closed but able to open) state, but voltage-gated K+ channels still op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Refractory Period &amp; Axn Pot Movement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33720" y="762120"/>
            <a:ext cx="49384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7543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ction Potential Conduction Veloci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elin she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ontinuous conduc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egment by segme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nmyelina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x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altatory Conduc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eap from node to n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yelina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xons: ions can’t pass lipid no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cc6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www.blackwellpublishing.com/matthews/actionp.htm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xon Dia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ype 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rgest, myelinated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astest (300mp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k. mm. motor neurons, balance &amp; L.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ype B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maller, myelinated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edium (40mp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ype 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mallest, unmyelinated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lowest (2mp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th B &amp; C carry pain, temp, to smooth mm &amp; glan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tinuous v. Saltatory Con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981080" y="838080"/>
            <a:ext cx="53467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caine Effects on Dopami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211.0)">
                                      <p:cBhvr>
                                        <p:cTn id="531" dur="77890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ther Factors on Rate of A.P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ormon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n promote facilitation or inhib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esynaptic inhibi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inhibits C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annels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cr postsynaptic stim (i.e. GAB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esynaptic Facilit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keep C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annels op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[Na+, K+, Ca2+]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dehydration or kidney dz)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basic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vulsions, acidic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hibition)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em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an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ordination of activities: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Nervous Syste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ervous System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ift, brief, tempor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unctions: (motor &amp; sensor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sens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ate inf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ordinate voluntary &amp; involuntary activ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ulate &amp; control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Other Neurotransmitters: Excite &amp; Inhibit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863640"/>
            <a:ext cx="822960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TP Needs &amp; Produc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P needed f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thesis, release, &amp; recycling 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vement of mate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very from a.p.: [ion]- Na+/ K+ pum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P Produc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erobic glycolysis (no glucose stor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 uninterrupted blood supply for O2 &amp; 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ok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 than 1-2 hr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ew weeks to reco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nger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erman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ch Drugs &amp; Synaptic Func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Drug Effect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feres w/ NT synthe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ter rate of NT rel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vent NT inactiv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vent NT binding to recep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affe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owers threshold at axon hillock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ore sensitive to stim (facilitation)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“jumpy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Nicot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ind to receptor sites on postsynaptic membrane &amp; stimulate it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o enzymes to remove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19360" y="609120"/>
            <a:ext cx="47242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otulinus toxi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blocks release Ach at presynaptic membran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ar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lack Widow spiders venom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cause massive release of Ach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ramps/ spas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nticholinesterase drug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block breakdown Ach by Ach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xtreme contract (ex: nerve gases, pst control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trop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revent Ach binding to postsynaptic neuron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aralysis (curare plant extract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rug Effects on Ach Synaps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57400" y="609480"/>
            <a:ext cx="55357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rvous System Over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Anatomical Divi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ent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ervous System (C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ain and spinal co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eriphe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ervous System (P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omat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ervous System (S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utonom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ervous System (A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ympathet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. S.- “flight or fight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arasympatheti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. S.- “rest &amp; repos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itc.gsw.edu/faculty/gfisk/anim/index.html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Functional Divisions (based on func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ffer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nsory (muscles/ gland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ffer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otor (CN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cles/ gl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5715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ellular Organization in Neural Tissu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 action="ppaction://hlinksldjump"/>
              </a:rPr>
              <a:t>Neu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(=Nerve cell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a (cell bod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dr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xon &amp; Nodes of Ranvier/ Interno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naptic terminals (knob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Neuroglia= Glial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cts neur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s support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gocy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uron Diagra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9154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Neuron Functional Classific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nsory Neu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Afferent fi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NS from ext &amp; int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ll bodies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eripheral gang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cc6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ensory recepto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pinal c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omatic Sensory Neur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ext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xterocepto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ight, smell, hear, tou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opriocepto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position joints &amp; mus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Visceral Sensory Neur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Interoceptors: internal envmt like visceral systems &amp; taste, deep pressure, p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Neuron Functional Classific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tor Neur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Efferent fi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NS to effectors (muscles/ gland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mulates or modifies activity of peripheral tissues, organs, organ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omatic Motor Neur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luntary skeletal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inal cord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euromuscular jun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Visceral Motor Neur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of A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oluntary peripheral effec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inal Cord (preganglionic fibers)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eripheral ganglion (PNS cell bodies)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ostganglionic fiber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ffec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16:31:46Z</dcterms:created>
  <dc:creator>Melissa Hecht</dc:creator>
  <dc:description/>
  <dc:language>en-US</dc:language>
  <cp:lastModifiedBy>jayoig</cp:lastModifiedBy>
  <cp:lastPrinted>2005-01-13T16:23:31Z</cp:lastPrinted>
  <dcterms:modified xsi:type="dcterms:W3CDTF">2010-02-19T18:31:12Z</dcterms:modified>
  <cp:revision>62</cp:revision>
  <dc:subject/>
  <dc:title>The Nervous System: Neural Tissue</dc:title>
</cp:coreProperties>
</file>